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F7B-0AFE-4A2B-B18A-B8A09E35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D85-A21A-4EF0-8B5E-9BBF4A0A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25D-D2D6-4434-8C3F-0625C55E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371-A8B0-470D-A9F9-CBA601AE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2049-F78A-4C9F-B66E-66135AF7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C985-BB71-472C-8D31-4725B439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86FF-DF14-4569-AE06-06A56CCD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DF2B-69ED-4480-9ED1-D7B76DF1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5A35-FD17-4E4C-92E2-FDA877C1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4FD4-1153-4527-820D-F3091893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8705-1F48-460B-997C-4C7DC402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FAA-F040-47CA-84F5-3F4627DF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D46B-7842-489E-BCA8-FDDD50F5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D49C-A6F0-4AE1-990E-5B7DA007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82A5-18EC-41C2-9145-D2710418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088D-EF85-49CF-9A33-427B0C80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2FCD-34EE-4115-810D-1A9CA3DC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890-E20F-4ACB-9226-1E22D4CE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87D-1D4F-4BC8-8281-76FEE065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1CB-09EA-46C6-82F4-E34D054F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24A-B207-4637-AC14-D65D7310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F8D-B7EE-4C7A-8F8D-7AF0352D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FD3-06E8-40F9-A0C4-8059C8EE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EF5-36AD-4184-B0C2-D711F1C7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4B10-E6A1-49E9-95DE-0CB1CBEE56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B6D7-E692-4E83-A243-77E0B25001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ey Application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0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nhancing Presentations with Multimedia Effec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504960" y="2927520"/>
            <a:ext cx="5181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Fon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813280" cy="34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AF0-9E06-4D64-A93A-1A02B54BBB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ec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modify text appearance, you must first select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you select text, you can delete it, replace it, change its appearance, move it, copy it, and so 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E3A-CF62-4D87-BBA3-6B7A55DFECD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ys to Select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5800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809-35C0-442C-A5E9-3F095788D24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 Styles on Sl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ing too many fonts or too many different formats makes text harder to re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f typefaces (such as Times Roman) have embellishments or curls at the ends of the let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erif typefaces are easiest to read and should be used when there are many words on a screen.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ns serif typefaces (such as Arial) have plain strokes with clear and simple curv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ans serif typefaces are usually heavier and bolder and are appropriate for titles and subtitles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656-A74E-4F0C-AA13-5869A191371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lip art and graphic objects can be added to your slides to add visual appeal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can be inserted from the Clip Organiz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se sizing handles around the object to resize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lso drag the border of the picture to move it around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D74-0033-4815-B6DD-130FA589D55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a Graph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icons in a graphic placeholder allow you to insert tables, charts, clip art, pictures, media clips, diagrams, and organizational chart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an icon to open a dialog box to insert the graphic type of your choic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17960" y="2438280"/>
            <a:ext cx="3106800" cy="3505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71560" y="60199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phic placehol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5181480"/>
            <a:ext cx="12956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757-0361-4EC7-997F-C3B4CF949FA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Clip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038480" y="2362320"/>
            <a:ext cx="407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Insert Clip Art icon in a graphic placehol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Search text box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any thumbnail image to insert it on your sl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sert, Picture, ClipArt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sert, Picture, From F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265428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66C-B33D-481E-81BC-D1E0B8D36F8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Slide Lay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You can change or add a slide layout in Normal view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66"/>
                </a:solidFill>
                <a:latin typeface="Arial"/>
              </a:rPr>
              <a:t>Format, Slide Layout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4 categories of slide layouts: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layou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 layou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and Content layou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 layou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25F-FB02-4F0D-AF8A-52F069977CE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lide Layout Task P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4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fault layout  i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itle and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any slide layout to apply to a slide. Select the slide in Normal view then select the layout you want to app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r content and formatting remain-only the layout of the slide will chang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18655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809-3664-4170-AD9A-A45CDB73A68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Mas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700" spc="-1" strike="noStrike">
                <a:solidFill>
                  <a:srgbClr val="003366"/>
                </a:solidFill>
                <a:latin typeface="Arial"/>
              </a:rPr>
              <a:t>Slide Master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is an element of the design template that stores information about the templat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utomatically provided with every design template in PowerPoin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keep formats, such as font styles and background design, in a Slide Mast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lso add text or insert graphics that will appear on every pag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A06-EB15-4A08-8909-4E57C4EEFEE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information to a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pictures and other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slide layo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Slide Mas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701-1D32-4E56-B5F5-41EB2D7D629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ew and Change a Slide Mas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View, Master, Slide Master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ke formatting changes to a Slide Master like normal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f it is on the slide master, it appears on EVERY slide!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5F1-59B1-4605-AF15-7AF90DBBA5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transitions determine how the display changes from slide to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ke the current slide fade away before the next on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ave slides automatically advance after a specified time perio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lay a sound effect as the slid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FDC-FB74-4CEC-BDD9-88083403309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 can be applied to single slides or to all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lide Show, Slide Tran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019-66C9-4282-B585-3B8E2409907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animation effects, such as exit, entrance, and emphasis effects, to one slide or entire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0B9-D80B-4044-B3A7-89824266B8A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animation effec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Slide Show, Custom Animatio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Add Effect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button in the Custom Animation pan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r select the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More Effec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ption to open an effect dialog box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B45-85F6-44F1-980F-4A6F7E7FE2E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dd Exit Effec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08480" y="2438280"/>
            <a:ext cx="2446200" cy="387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C37-6085-4882-870A-E24BFFFCFFE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a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re are several ways you can print a PowerPoint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individual sli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the slide show outl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speaker’s no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PowerPoint’s Help feature to learn more about how to print a specific element of a present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8E8-B433-4723-82BB-10E021D436A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Hand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 print handouts for a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n the File menu and click Print Previe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down arrow in the Print What text box to see the options availab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one of the Handouts options from the li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Print button in the Print Preview window to print the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change the print options, such as the range of pages to print, color or grayscale, and number of copies, in the Print dialog bo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F83-AC01-4AD0-8201-9DB2E57433B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or edit text, a slide must be displayed in Normal view. When you add text or edit text, the slide contents are automatically updated in the Outlin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want to change the way text looks on a slide, you can select the text and apply different formats. For example, you can change the font style, font size, and font colo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D5D-C2F7-4495-BB8C-F3EA3F82975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help to clarify the message of your presentation. Graphics can make your audience remember your message, and PowerPoint makes it easy for you to add a picture to a slid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t any time in the process of creating a presentation, you can change the layout of one or all the slides in the presentation by selecting a new slide layout in the Slide Layout task pan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3FF-49A4-4DFE-9C24-3719E20C4B1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transitions between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order of slides in a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handouts and notes to accompany a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B89-8483-4443-BC23-9701BA7C307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lide Master is part of a design template and is used to make uniform changes to slide characteristics, such as background color and font, or to add repeated text or graphics to all slides in a present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lide transition affects how each new slide appears. You can apply transition settings to a single slide or to all the slides in the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3B2-C228-4C82-9F9F-BA47649D0E4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pecial effects that can enhance how a slide opens or closes or add emphasis, animation, or soun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drag-and-drop editing to quickly change the order of slides in a presentation in Slide Sorter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everal options for printing a presentation, including handouts, notes pages, and an outline of the slide show conten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C0F-9EE2-4280-8115-D1ABB74A8FF1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p Organiz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it eff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Ma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5CD-16FE-4581-BF82-3589693FD3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ing Information to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text to a slide or to edit the text on a slide, it must be displayed in Normal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placeholder:  just click in the placeholder and begin ke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type titles, subtitles, and body text in placeholde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an resize the placeholders, move them and add formatting to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218-00F3-4B15-8460-13AA2D6CEB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Bo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: 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nsert, Text Bo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 you to place text anywhere on a slide, even outside a placehol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dd a border, fill, shadow, or three-dimensional (3-D) effect to a text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E44-74D6-4055-AC6C-A0C7D2FA3D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toShapes and Word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AutoShapes to emphasiz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you enter text in AutoShape, text is attached to the shape and moves with i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WordArt to create ornamental text eff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an stretch, curve, and rotate text to add even more elaborate effect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753-3020-4AA8-9C7C-64A455AFCB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edit text in a placehold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sition the insertion point where you want to change the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ke your change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s in the Outline pane are automatically updated when you edit text in Slid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908-8BF6-45F6-98B6-FAB9272BB7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ith a  design template, format of the text is predetermined, but can change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se the Formatting toolbar or Font dialog box to change the font, font size, and attributes such as bold, italic, and underlin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pply other attributes, such as color, shadow, superscript, and others, in the Font dialog box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3F7-0F41-4DEF-9FD9-35CBC5E5E0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LDSD</cp:lastModifiedBy>
  <dcterms:modified xsi:type="dcterms:W3CDTF">2009-11-16T17:54:50Z</dcterms:modified>
  <cp:revision>44</cp:revision>
  <dc:subject/>
  <dc:title>kjjhghgff</dc:title>
</cp:coreProperties>
</file>